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FD0F-7A75-4A82-9559-F706D66A7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A1BC-9B45-44C2-88E1-CA2C2FC82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9BA5-A6F4-43A2-9B03-F0643C3D7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19E3-D77C-4967-927F-32BC36E54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04DB-433E-49CE-8FF7-267344C8E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4F80-F599-4A4C-B765-6B400C72C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377F-9711-4146-B876-475F0E70F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each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f they need help after they dig in…contact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3F1A-2764-403B-9AB5-D22F6CBFF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4906-5459-4FB4-9426-D3CD26FA9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A7D1-C128-4911-BEE4-6B5144FCD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A3AB-968B-4182-94E1-87AC505ED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89C6-60DD-4E3A-AF92-1020AAF6C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24DD-5604-4B7A-AFC4-E147D2C29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A5B3-1586-4E5B-B2B6-43EEB0818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3B18-63ED-4AA9-B484-C79076F5A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7857-5C44-43AB-8486-04E765264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EECB-9641-4491-B65F-69AB547D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5FC8-0CB7-46EA-9D62-50563C2DC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8B3A-6FCA-474D-B1B4-77BCC7EC2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8187-56EA-48BC-86D7-EB2B9A7AA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5675-009E-4B14-8938-2C25DBC4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8636-86B2-427D-9257-946C1398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BDAF-F16A-4542-8A63-BC9B37B3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453C-EDAA-4324-86A5-33C86AC9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BD46-9E7F-4ED1-A0BD-88D8388C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89A2-2F55-4AB7-89E4-C05BDD53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1C3C-0C74-49A6-B4A0-4E8D6276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FE8E-D97A-4FC4-854F-3618C5C5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9FF3-8ADF-4DD2-A5F6-C33FC545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7B44-A068-4F56-814E-464C1612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037C-7C78-45E1-881F-F000BA50F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70C7-7F07-4EA0-8220-A6BA5B276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AF68-631C-43E9-84DB-D6FB19A7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3061-E234-4AB9-9679-DA8C16CF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B4D2-7DB7-4A6D-8A6B-5BBAF9A8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81C5-D878-4AE0-BFAC-21570E9B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E42B-5161-4DAA-B11F-E5CF80E9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0C57-84AF-4516-BF81-E7E02E25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BE58-4E35-4B91-8565-8DE44C0F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bb0cb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bb0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bb0cb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2DD0-4C81-4D60-ABCC-893379B54D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bb0cb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bb0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bb0cb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2A1E-83DA-4388-B4BE-35659A8F3E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imsweb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153640" cy="23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IMSweb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Grade Pilo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0" y="32000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Upper Arlington Schoo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914400" y="51642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ptember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urpose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IMSweb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rade Pi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dministration and scoring protocols for the MAZE and Oral Reading Fluency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raining vide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Go to </a:t>
            </a:r>
            <a:r>
              <a:rPr b="0" lang="en-US" sz="2000" spc="-1" strike="noStrike" u="sng">
                <a:solidFill>
                  <a:srgbClr val="8ea642"/>
                </a:solidFill>
                <a:uFillTx/>
                <a:latin typeface="Calibri"/>
                <a:ea typeface="Calibri"/>
                <a:hlinkClick r:id="rId1"/>
              </a:rPr>
              <a:t>www.aimsweb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upport and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raining 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eading CBM – Video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IMSweb Benchmarking Parameters</a:t>
            </a:r>
            <a:br>
              <a:rPr sz="3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rade Pi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ptember 1- September 30 (PRACTICE WIND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ZE – a few students or whol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RF – a few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ort no score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nuary 3-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ZE – all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RF – only those below MAZE bench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ort scores on spreadshe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y 2-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ZE – all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RF – only those below MAZE bench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ort scores on spreadsh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urn in scores to Julie’s drop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3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 Grade AIMSweb Benchmark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AZ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- # of correct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ORF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- # of words read cor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ptember 1- September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ZE –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RF – 1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January 3-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ZE –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RF – 1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y 2-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ZE –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RF – 1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Looking ahead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haring data with elementary principals/EIS and middle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76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Excel spreadshee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76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After January administration and/or Ma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lan for evaluating AIMSweb as an assessment tool at the 5th grad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eting via wi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 person meeting after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75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xploration of AIMSweb as a progress monitoring too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anks for all that you do to support your students’ literacy development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2 Truths, 1 Li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3818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IMSweb contains over 33 different assessment ar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IMSweb is designed to provide instruction to meet students’ nee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IMSweb is a subscription-based, online data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The AIMSweb Journey in UA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Rectangle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417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What is AIMSweb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bscription-based, online syste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source for benchmarking and progress monitoring material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ta management syste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ort generat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ndardiz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IMSweb also IS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piece of the data “pictu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onversation st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icture of present levels of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quantitative measure of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IMSweb is NOT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ssessment tool used in isolation of other assessment strategies or instr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“one-time”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necdotal, qualitative mea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MAZE (comprehension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minister 1 grade level pass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st sentence in every passage is i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roximately every 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word is replaced with three bold-faced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74"/>
              </a:spcBef>
              <a:buClr>
                <a:srgbClr val="d1e0ce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2 distracters = visually similar, grammatically/syntactically simil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74"/>
              </a:spcBef>
              <a:buClr>
                <a:srgbClr val="d1e0ce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1 correct cho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inute timed pass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n be given whole group, small group, or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ORF (Oral Reading Fluency or R-CBM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minister 3 grade level pass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minute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acher needs a t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ividua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minister to one student at a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IMSweb Benchmarking Window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tember 1- September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orting date:  October 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nuary 3-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orting date:  February 7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 2-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orting date:  June 7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5:11:43Z</dcterms:created>
  <dc:creator>UA Schools</dc:creator>
  <dc:description/>
  <dc:language>en-US</dc:language>
  <cp:lastModifiedBy>Teacher</cp:lastModifiedBy>
  <cp:lastPrinted>2010-09-13T19:46:40Z</cp:lastPrinted>
  <dcterms:modified xsi:type="dcterms:W3CDTF">2010-09-13T19:48:51Z</dcterms:modified>
  <cp:revision>248</cp:revision>
  <dc:subject/>
  <dc:title>Using Guided Math Groups in the Classroom to Provide Tier 1 Intervention</dc:title>
</cp:coreProperties>
</file>