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E98E-6CF9-424E-9C95-77AB4ED3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CAD-2E36-40CA-8162-31D5798FE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679-B87A-4878-808E-F33F9366F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2605-E005-450D-B811-D2EDA6623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FD3A-5AED-4723-870E-5739478C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BEC-8621-4E2E-9800-9B5FEAD4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757-A6CE-4E03-9DF0-71616F629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eac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f they need help after they dig in…contact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EA04-B8A2-4FD4-9857-2BB750F54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48DF-24CD-4573-82F2-1B28525C0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4580-D75E-4112-AF1B-100B6CDE2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FE99-1DB3-4BFE-BDB6-B308C5F7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AA5-0065-4B6C-BD62-7F561E1F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F08-8B6B-41DD-AC93-E36AB7C7D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E71F-12E3-41D5-A739-92165465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8A90-B550-4812-8F9E-CF7BA888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045-801B-4A88-9073-6BDD1F99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140-F140-4B28-AAA5-095D44DB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78E-0905-4DBE-BBE3-02BDAD45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049-EA04-4CF3-BD67-63661157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3958-FC97-484A-8284-0EB10F8D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5986-05B3-4F1B-90FE-06E10C12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2A6-AE87-45F5-AB96-42AB4AE9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6172-019D-4714-A57C-C41EC753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177F-C49C-4962-93A8-0488C4FF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1595-15F9-4228-9498-574A4E4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62FC-EF21-47D3-9E22-D7A7D67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3B8-08F4-4C4C-8C4A-D1D1D63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BD04-8406-459D-B252-FC8BFDD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EDC0-A3F6-4659-861D-8DAE7189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6577-C2AD-436E-9DF3-6366BFE1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E21A-F88C-4715-81E5-DF1D5504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37D2-E5C9-4D44-B39A-A6739653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957-A4AF-4FF2-AB59-2C4CDE81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F99-E0CF-4AD2-9373-265D2833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344-325D-4CD6-A8C7-A81CBF9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AE0-AFDE-442A-94A2-F1FC89D6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9AB-7FF3-4B85-923A-7BA8AAD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D99-32E0-4DF9-8C2F-A0D77B6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E41-EFB6-4E12-AAB1-8BACBAFB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BE66-79B1-466D-A5AC-55873B6F27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1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1e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bb0cb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bb0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bb0c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1CBB-4BCD-4E2B-A66C-259979293C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imsweb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IMSwe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Grade Pilo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200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pper Arlington Sch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14400" y="5164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urpose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Sweb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ministration and scoring protocols for the MAZE and Oral Reading Fluency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ining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o to </a:t>
            </a:r>
            <a:r>
              <a:rPr b="0" lang="en-US" sz="2000" spc="-1" strike="noStrike" u="sng">
                <a:solidFill>
                  <a:srgbClr val="8ea642"/>
                </a:solidFill>
                <a:uFillTx/>
                <a:latin typeface="Calibri"/>
                <a:ea typeface="Calibri"/>
                <a:hlinkClick r:id="rId1"/>
              </a:rPr>
              <a:t>www.aimsw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pport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ading CBM – Video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Parameters</a:t>
            </a:r>
            <a:br>
              <a:rPr sz="3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ade Pi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ptember 1- September 30 (PRACTICE WIND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 few students or whol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a few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no scor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al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only those below MAZ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scores on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in scores to Julie’s drop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 Grade AIMSweb Benchma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A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correc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R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# of words rea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ZE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F – 1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Looking ahea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haring data with elementary principals/EIS and middle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xcel spreadshee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76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After January administration and/or M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lan for evaluating AIMSweb as an assessment tool at the 5th grad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eting via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person meeting after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ploration of AIMSweb as a progress monitoring to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anks for all that you do to support your students’ literacy development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2 Truths, 1 L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contains over 33 different assessment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designed to provide instruction to meet students’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Sweb is a subscription-based, online data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AIMSweb Journey in UA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417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at is AIMSweb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scription-based, online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 for benchmarking and progress monitoring mate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management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 gener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also I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piece of the data “pic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versati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of present levels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quantitative measure of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is NO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essment tool used in isolation of other assessment strategies or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one-time”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necdotal, qualitativ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AZE (comprehension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1 grade level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sentence in every passage is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ximately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d is replaced with three bold-fac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2 distracters = visually similar, grammatically/syntactically simil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74"/>
              </a:spcBef>
              <a:buClr>
                <a:srgbClr val="d1e0ce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correct cho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inute timed pa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be given whole group, small group, or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ORF (Oral Reading Fluency or R-CB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minister 3 grade level pa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minute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needs a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d1e0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minister to one student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MSweb Benchmarking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- September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October 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uary 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February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1e0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2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d1e0ce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orting date:  June 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11:43Z</dcterms:created>
  <dc:creator>UA Schools</dc:creator>
  <dc:description/>
  <dc:language>en-US</dc:language>
  <cp:lastModifiedBy>Teacher</cp:lastModifiedBy>
  <cp:lastPrinted>2010-09-13T19:46:40Z</cp:lastPrinted>
  <dcterms:modified xsi:type="dcterms:W3CDTF">2010-09-13T19:48:51Z</dcterms:modified>
  <cp:revision>248</cp:revision>
  <dc:subject/>
  <dc:title>Using Guided Math Groups in the Classroom to Provide Tier 1 Intervention</dc:title>
</cp:coreProperties>
</file>