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D4A60-9527-4615-8DA7-6EB5109346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CCCEA-222C-45BD-AB07-130DF7799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5D10B-E913-49FE-B028-65DC3F4124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85BD5-3859-4893-AEB5-43681D183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DD608-3A06-41D6-B7C7-B3B8AF1264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B5BFC-0F56-4B3E-9061-FDF32570E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53570-6427-4B34-81F0-92A58DDF1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teach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f they need help after they dig in…contact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71C84-C2E6-4A1C-AE4E-499498D202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D3F35-5A3C-4A91-AD14-E8029CBF8A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4D7D4-A97C-4F0B-97C5-E0BE3F90D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85A9C-9D23-42FE-8474-98D9FB376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E170E-AD5B-4A7F-9DDF-5EBCB7344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C4BBD-179B-43F9-BD7B-6F20D19B6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28D1C-AB3A-4B56-A8E0-1E2695799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C54EA-B33E-47F6-8094-DB06599AE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770F-0764-4DE4-AE4C-D4B5AE65A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86ED-AF42-459D-AC9B-0FDA2773F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3D6F-C555-4807-82CE-87A40B7E6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5814-ACBF-45AD-8765-C028E70F0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10ACB-B3DB-40C7-BC2D-407A0EA8F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E7F11-93B7-4D06-8B6A-7D15DA4CF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DCBDB-840E-4DFB-81E8-7CB2207B0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67673-D999-4A04-828F-00B5BBBD6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8AB37-55CF-465F-8410-386C91C7D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77AD3-07B6-46A4-B0B9-52A8789CD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8B94A-90A7-41DF-AD5F-D8718C70F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5BBD-69F9-4E75-9527-386551201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0139C-5650-4ACF-A3C9-D7498071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C2268-E0A8-4FAC-B980-AC7E7B7A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BACFC-0021-4DB8-8153-1D795A835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09AAD-49BB-4227-9157-76F9C6EF1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2D4D5-3833-4E91-A597-14A27C2B1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43E0-000C-472C-9C0A-CAEA6D0B3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7EE8-5C19-45E0-8D83-FA1595887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9A0C-1084-45E8-8EFE-C32E4B606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31A0-31C6-45B5-A5D3-BECE5080D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7410-C9EC-43E5-8ECB-726AA558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5C3E-B07E-4BF1-981A-3865900F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3EB5-98F1-4395-8C15-F5E94456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1e0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1e0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bb0c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bb0cb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bb0c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bb0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bb0cb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1A27B-3EC7-4C69-AF81-E0E1732DE00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1e0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1e0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bb0c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bb0cb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bb0c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bb0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bb0cb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464A7-CB17-4F73-BF5D-96CD7982533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aimsweb.co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153640" cy="23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IMSweb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Grade Pilo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0" y="320004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Upper Arlington Schoo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914400" y="516420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ptember,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Purpose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IMSweb 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Grade Pi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dministration and scoring protocols for the MAZE and Oral Reading Fluency assess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raining vide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d1e0ce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Go to </a:t>
            </a:r>
            <a:r>
              <a:rPr b="0" lang="en-US" sz="2000" spc="-1" strike="noStrike" u="sng">
                <a:solidFill>
                  <a:srgbClr val="8ea642"/>
                </a:solidFill>
                <a:uFillTx/>
                <a:latin typeface="Calibri"/>
                <a:ea typeface="Calibri"/>
                <a:hlinkClick r:id="rId1"/>
              </a:rPr>
              <a:t>www.aimsweb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d1e0ce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Support and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d1e0ce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d1e0ce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Training Mater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d1e0ce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Reading CBM – Video Ex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AIMSweb Benchmarking Parameters</a:t>
            </a:r>
            <a:br>
              <a:rPr sz="3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Grade Pi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ptember 1- September 30 (PRACTICE WIND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ZE – a few students or whole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RF – a few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port no score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anuary 3-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ZE – all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RF – only those below MAZE bench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port scores on spreadshe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y 2-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ZE – all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RF – only those below MAZE bench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port scores on spreadshe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urn in scores to Julie’s drop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3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 Grade AIMSweb Benchmark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MAZ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- # of correct respon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ORF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- # of words read correc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ptember 1- September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ZE – 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RF – 1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January 3-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ZE – 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RF – 1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y 2-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ZE – 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RF – 1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Looking ahead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Sharing data with elementary principals/EIS and middle sch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76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Calibri"/>
              </a:rPr>
              <a:t>Excel spreadshee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76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Calibri"/>
              </a:rPr>
              <a:t>After January administration and/or Ma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Plan for evaluating AIMSweb as an assessment tool at the 5th grad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eeting via wi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 person meeting after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75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Exploration of AIMSweb as a progress monitoring too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anks for all that you do to support your students’ literacy development!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2 Truths, 1 Li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3818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IMSweb contains over 33 different assessment are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IMSweb is designed to provide instruction to meet students’ nee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IMSweb is a subscription-based, online data managemen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The AIMSweb Journey in UA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Rectangle 3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4176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What is AIMSweb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ubscription-based, online syste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source for benchmarking and progress monitoring material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ata management syste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port generato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andardiz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AIMSweb also IS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 piece of the data “pictur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conversation star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icture of present levels of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quantitative measure of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AIMSweb is NOT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ssessment tool used in isolation of other assessment strategies or instr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“one-time”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necdotal, qualitative mea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MAZE (comprehension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dminister 1 grade level pass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d1e0ce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st sentence in every passage is int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d1e0ce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pproximately every 7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word is replaced with three bold-faced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74"/>
              </a:spcBef>
              <a:buClr>
                <a:srgbClr val="d1e0ce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2 distracters = visually similar, grammatically/syntactically simil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74"/>
              </a:spcBef>
              <a:buClr>
                <a:srgbClr val="d1e0ce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1 correct choi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inute timed pass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an be given whole group, small group, or individ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ORF (Oral Reading Fluency or R-CBM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dminister 3 grade level pass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d1e0ce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 minute 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d1e0ce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acher needs a t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dividua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d1e0ce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minister to one student at a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AIMSweb Benchmarking Window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tember 1- September 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porting date:  October 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anuary 3-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porting date:  February 7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y 2-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porting date:  June 7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5:11:43Z</dcterms:created>
  <dc:creator>UA Schools</dc:creator>
  <dc:description/>
  <dc:language>en-US</dc:language>
  <cp:lastModifiedBy>Teacher</cp:lastModifiedBy>
  <cp:lastPrinted>2010-09-13T19:46:40Z</cp:lastPrinted>
  <dcterms:modified xsi:type="dcterms:W3CDTF">2010-09-13T19:48:51Z</dcterms:modified>
  <cp:revision>248</cp:revision>
  <dc:subject/>
  <dc:title>Using Guided Math Groups in the Classroom to Provide Tier 1 Intervention</dc:title>
</cp:coreProperties>
</file>