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61D3-F3BA-471D-B92A-423219412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B7F5-F4B6-47AD-94CF-9553B0669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EC63-ECB5-438B-963E-61BE09256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E4C1-8444-45EC-91DE-95BD4F212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8478-D9E4-42B5-B8A9-7013B715A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28E4-D08D-4AFF-B508-CE5F90129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F82C-D633-440B-A4E3-F7357B3FF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each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f they need help after they dig in…contact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35AB-378E-49F1-B515-4A53F50C0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7F56-65E7-4A77-A8F7-06687BB3D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3017-CAE3-4A76-8F5A-D5BCD8401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21B9-381E-412D-8DA9-3F967DEC0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2B8B-AD04-450A-9EDE-5302D086A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61FD-8B5D-477B-AB47-67D88E6DD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9DFC-0E60-473F-9E66-C4A9D6A47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7876-3353-4A8B-8382-DFBE267FA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7454-4D3C-4D05-8BCB-197A5A6B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6342-6A50-457B-B44F-A43F1255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C122-ED6A-4F3A-85E9-221C6010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503C-AEA2-4BDB-A813-859505F1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9DEB-322D-44E0-A3AF-5EDAFDC5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7028-A6B1-4A7E-948A-CFCCC126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F416-421E-4944-84A7-B5EDFB66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1BAA-3E37-4B3B-A088-64E86A25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9372-48A5-434A-8024-30695CF6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9BB4-2956-499C-B360-AD7B8D9B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EAD8-EA54-4BF7-99F6-53A4EE52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27F9-52C7-43FD-82BE-F2246264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F5D9-CB78-4658-91B1-5E860336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9EA2-CE20-48BF-B6EC-101455C0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304A-BCEA-4715-AE58-E8CFFE4F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994E-9455-4929-86CE-3D706267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5E6E-BD10-4270-B0BB-D6A740C2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6CF4-A47A-4D6B-BE0F-9E6F7EAD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D042-3154-41FF-9F47-3B4CE889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007C-87EB-4B6F-A8FB-AE8C7962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C30C-4457-4080-ABCF-BBADCDF3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F71C-C740-4322-A1A3-BA642F91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A380-EB8D-4431-B717-026185E6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EB1E-1EB0-4C6C-92C3-DEC476B2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bb0cb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bb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CB24-004F-43B5-BE59-3EFD956831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bb0cb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bb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605A-5AA8-4933-8785-6571B878DD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imsweb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IMSweb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Grade Pilo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0" y="3200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Upper Arlington Sch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914400" y="51642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ptember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urpose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MSweb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rade Pi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dministration and scoring protocols for the MAZE and Oral Reading Fluency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raining v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Go to </a:t>
            </a:r>
            <a:r>
              <a:rPr b="0" lang="en-US" sz="2000" spc="-1" strike="noStrike" u="sng">
                <a:solidFill>
                  <a:srgbClr val="8ea642"/>
                </a:solidFill>
                <a:uFillTx/>
                <a:latin typeface="Calibri"/>
                <a:ea typeface="Calibri"/>
                <a:hlinkClick r:id="rId1"/>
              </a:rPr>
              <a:t>www.aimsweb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upport and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raining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ading CBM – Video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IMSweb Benchmarking Parameters</a:t>
            </a:r>
            <a:br>
              <a:rPr sz="3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rade Pi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ptember 1- September 30 (PRACTICE WIND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a few students or whol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a few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 no scor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nuary 3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al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only those below MAZE bench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 scores on spreadshe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2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al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only those below MAZE bench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 scores on spread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urn in scores to Julie’s drop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 Grade AIMSweb Benchmar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AZ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# of correc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OR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# of words read cor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ptember 1- September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1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anuary 3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1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y 2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1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Looking ahead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haring data with elementary principals/EIS and middle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76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Excel spreadshee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76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After January administration and/or Ma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lan for evaluating AIMSweb as an assessment tool at the 5th grad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eting via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person meeting after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xploration of AIMSweb as a progress monitoring to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anks for all that you do to support your students’ literacy development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2 Truths, 1 L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Sweb contains over 33 different assessment 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Sweb is designed to provide instruction to meet students’ n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Sweb is a subscription-based, online data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e AIMSweb Journey in UA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Rectangle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417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What is AIMSweb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bscription-based, online syst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source for benchmarking and progress monitoring materia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ta management syst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 generat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IMSweb also IS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piece of the data “pict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nversation st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icture of present levels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quantitative measure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IMSweb is NOT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ssment tool used in isolation of other assessment strategies or instr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“one-time”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necdotal, qualitative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MAZE (comprehension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minister 1 grade level pas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sentence in every passage is i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roximately every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ord is replaced with three bold-face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74"/>
              </a:spcBef>
              <a:buClr>
                <a:srgbClr val="d1e0ce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 distracters = visually similar, grammatically/syntactically simil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74"/>
              </a:spcBef>
              <a:buClr>
                <a:srgbClr val="d1e0ce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 correct cho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inute timed pas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 be given whole group, small group, or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ORF (Oral Reading Fluency or R-CBM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minister 3 grade level pass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minute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er needs a t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minister to one student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IMSweb Benchmarking Window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tember 1- September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ing date:  October 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nuary 3-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ing date:  February 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2-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ing date:  June 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5:11:43Z</dcterms:created>
  <dc:creator>UA Schools</dc:creator>
  <dc:description/>
  <dc:language>en-US</dc:language>
  <cp:lastModifiedBy>Teacher</cp:lastModifiedBy>
  <cp:lastPrinted>2010-09-13T19:46:40Z</cp:lastPrinted>
  <dcterms:modified xsi:type="dcterms:W3CDTF">2010-09-13T19:48:51Z</dcterms:modified>
  <cp:revision>248</cp:revision>
  <dc:subject/>
  <dc:title>Using Guided Math Groups in the Classroom to Provide Tier 1 Intervention</dc:title>
</cp:coreProperties>
</file>