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D77F1-F20D-41E7-AC1B-6101BA8470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7AD5A-FABF-4682-838D-FDE7E62055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3774E-D62A-4B9F-B8B3-BCCF7DBB00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C4C82-E149-4E69-BFC6-1598B7DF38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3A162-8C5C-499F-BEA8-C7A03C1988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C43B6-6930-43BC-BD83-6E60E8C86E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CFDC0-E4E3-4F18-B692-970051A211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ind teacher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If they need help after they dig in…contact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70BFE-4411-4B2B-8941-22C630D8FC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487AF-E444-4999-83BB-F9BB5BE96E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D9962-4BF8-42C5-B0D6-251BEB0F6A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C09FD-2BAA-476D-94BC-590602307C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93B9E-0EE5-4653-847A-F4982FA81D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10ACC-51FD-401F-BD9D-A22397AB36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D82BF-D76D-4ABE-88A5-E743ACAB88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6BC3E-5E30-481E-AB69-2FCB3594CF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E2551-A004-48F8-A380-9D0D56DBA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F8C6F-EF52-445A-9CC5-D85044DFF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815B5-6DF7-48A9-8349-1766C8A30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0B0A4-06FA-406B-BED4-D10476AD8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ABCEB-5EF8-4A47-BECB-275C9C578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8358D-C531-4146-A68B-66F6CC879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EE365-BC54-42E8-9FB1-F213EB4DD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FA5C0-4B70-420E-83BF-3359D43F3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FAAC7-2F26-444D-B0AF-10C97DAA2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9796B-AC16-4296-85A5-9D0D666FB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6D12E-0BE2-4070-BABC-4FF0D5727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7E225-CB62-4AD9-89BF-CE3E672F6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EE5DA-BDEB-4589-9E23-C0DC0C55B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1C3BA-1A5F-4D85-A045-DD940037F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939CD-7BC4-44C1-9E88-360D6BC9C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523F3-5FD6-4968-A0D9-2A001A6A1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8239B-241C-4F21-900B-F29DF8E39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B47B1-08AA-4E3D-8233-4D0730C58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79C84-44C1-4B5C-8DDD-3CA57A79D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34846-DE30-46FD-8716-FB766D248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F0E83-2E6F-45E9-81D1-20EB123D0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3A6BB-033C-4329-A32F-079B533CA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78EB4-769F-47EB-8EC5-244122675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E2C38-0E52-4583-BB76-7C86A3A51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1e0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1e0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1e0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1e0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1e0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bb0c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bb0cb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bb0c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bb0c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bb0cb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57BE4-221C-4173-93E5-02EEB3D726F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Oval 3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1e0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Oval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1e0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Oval 5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1e0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Oval 6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1e0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Oval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1e0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Oval 8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1e0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bb0c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bb0cb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bb0c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bb0c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bb0cb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38B9D-26BD-449A-80EC-AD17110D3F3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aimsweb.com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120" y="380880"/>
            <a:ext cx="8153640" cy="23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IMSweb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0" lang="en-US" sz="44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Grade Pilo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0" y="320004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Upper Arlington School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6"/>
          <p:cNvSpPr/>
          <p:nvPr/>
        </p:nvSpPr>
        <p:spPr>
          <a:xfrm>
            <a:off x="914400" y="5164200"/>
            <a:ext cx="685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ptember, 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ut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1e0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Purpose of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IMSweb 5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Grade Pil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1e0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Administration and scoring protocols for the MAZE and Oral Reading Fluency assess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d1e0ce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Training vide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d1e0ce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Go to </a:t>
            </a:r>
            <a:r>
              <a:rPr b="0" lang="en-US" sz="2000" spc="-1" strike="noStrike" u="sng">
                <a:solidFill>
                  <a:srgbClr val="8ea642"/>
                </a:solidFill>
                <a:uFillTx/>
                <a:latin typeface="Calibri"/>
                <a:ea typeface="Calibri"/>
                <a:hlinkClick r:id="rId1"/>
              </a:rPr>
              <a:t>www.aimsweb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d1e0ce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Support and Trai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d1e0ce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Trai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d1e0ce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Training Materi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d1e0ce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Reading CBM – Video Examp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ut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</a:rPr>
              <a:t>AIMSweb Benchmarking Parameters</a:t>
            </a:r>
            <a:br>
              <a:rPr sz="3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Grade Pil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d1e0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ptember 1- September 30 (PRACTICE WIND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d1e0ce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MAZE – a few students or whole 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d1e0ce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ORF – a few stud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d1e0ce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eport no scores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d1e0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January 3-3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d1e0ce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MAZE – all stud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d1e0ce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ORF – only those below MAZE benchma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d1e0ce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eport scores on spreadshee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d1e0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y 2-3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d1e0ce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MAZE – all stud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d1e0ce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ORF – only those below MAZE benchma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d1e0ce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eport scores on spreadshe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d1e0ce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Turn in scores to Julie’s drop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ut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0" lang="en-US" sz="38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3800" spc="-1" strike="noStrike">
                <a:solidFill>
                  <a:srgbClr val="000000"/>
                </a:solidFill>
                <a:latin typeface="Calibri"/>
              </a:rPr>
              <a:t> Grade AIMSweb Benchmark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MAZ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- # of correct respon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ORF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- # of words read correct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1e0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eptember 1- September 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d1e0ce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MAZE – 1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d1e0ce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ORF – 11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1e0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January 3-3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d1e0ce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MAZE – 2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d1e0ce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ORF – 13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1e0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May 2-3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d1e0ce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MAZE – 2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d1e0ce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ORF – 14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ut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</a:rPr>
              <a:t>Looking ahead…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d1e0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Sharing data with elementary principals/EIS and middle sch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476"/>
              </a:spcBef>
              <a:buClr>
                <a:srgbClr val="d1e0ce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  <a:ea typeface="Calibri"/>
              </a:rPr>
              <a:t>Excel spreadsheet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476"/>
              </a:spcBef>
              <a:buClr>
                <a:srgbClr val="d1e0ce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  <a:ea typeface="Calibri"/>
              </a:rPr>
              <a:t>After January administration and/or May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d1e0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Plan for evaluating AIMSweb as an assessment tool at the 5th grad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451"/>
              </a:spcBef>
              <a:buClr>
                <a:srgbClr val="d1e0ce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Meeting via wi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451"/>
              </a:spcBef>
              <a:buClr>
                <a:srgbClr val="d1e0ce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n person meeting after scho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575"/>
              </a:spcBef>
              <a:buClr>
                <a:srgbClr val="d1e0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Exploration of AIMSweb as a progress monitoring too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ut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Ques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Thanks for all that you do to support your students’ literacy development!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ut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</a:rPr>
              <a:t>2 Truths, 1 Li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38188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1e0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IMSweb contains over 33 different assessment are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1e0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IMSweb is designed to provide instruction to meet students’ nee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1e0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IMSweb is a subscription-based, online data management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ut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</a:rPr>
              <a:t>The AIMSweb Journey in UA…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Rectangle 3" descr=""/>
          <p:cNvPicPr/>
          <p:nvPr/>
        </p:nvPicPr>
        <p:blipFill>
          <a:blip r:embed="rId1"/>
          <a:stretch/>
        </p:blipFill>
        <p:spPr>
          <a:xfrm>
            <a:off x="450720" y="1596960"/>
            <a:ext cx="8242560" cy="4541760"/>
          </a:xfrm>
          <a:prstGeom prst="rect">
            <a:avLst/>
          </a:prstGeom>
          <a:ln w="0">
            <a:noFill/>
          </a:ln>
        </p:spPr>
      </p:pic>
    </p:spTree>
  </p:cSld>
  <p:transition>
    <p:cut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</a:rPr>
              <a:t>What is AIMSweb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d1e0ce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ubscription-based, online system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d1e0ce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esource for benchmarking and progress monitoring material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d1e0ce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ata management system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d1e0ce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eport generato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d1e0ce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tandardized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ut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</a:rPr>
              <a:t>AIMSweb also IS…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1e0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ne piece of the data “picture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1e0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conversation star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1e0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picture of present levels of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1e0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quantitative measure of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ut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</a:rPr>
              <a:t>AIMSweb is NOT…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d1e0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str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d1e0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 assessment tool used in isolation of other assessment strategies or instru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d1e0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“one-time” assess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d1e0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 anecdotal, qualitative meas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ut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</a:rPr>
              <a:t>MAZE (comprehension)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d1e0ce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dminister 1 grade level passa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d1e0ce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rst sentence in every passage is int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d1e0ce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pproximately every 7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word is replaced with three bold-faced 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374"/>
              </a:spcBef>
              <a:buClr>
                <a:srgbClr val="d1e0ce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2 distracters = visually similar, grammatically/syntactically simila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374"/>
              </a:spcBef>
              <a:buClr>
                <a:srgbClr val="d1e0ce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1 correct choic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d1e0ce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3 minute timed passa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d1e0ce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an be given whole group, small group, or individual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ut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</a:rPr>
              <a:t>ORF (Oral Reading Fluency or R-CBM)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d1e0ce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dminister 3 grade level passag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d1e0ce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 minute 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d1e0ce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acher needs a ti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d1e0ce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dividua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d1e0ce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dminister to one student at a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ut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</a:rPr>
              <a:t>AIMSweb Benchmarking Window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1e0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tember 1- September 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d1e0ce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eporting date:  October 8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1e0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January 3-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d1e0ce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eporting date:  February 7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1e0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y 2-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d1e0ce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eporting date:  June 7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ut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3T15:11:43Z</dcterms:created>
  <dc:creator>UA Schools</dc:creator>
  <dc:description/>
  <dc:language>en-US</dc:language>
  <cp:lastModifiedBy>Teacher</cp:lastModifiedBy>
  <cp:lastPrinted>2010-09-13T19:46:40Z</cp:lastPrinted>
  <dcterms:modified xsi:type="dcterms:W3CDTF">2010-09-13T19:48:51Z</dcterms:modified>
  <cp:revision>248</cp:revision>
  <dc:subject/>
  <dc:title>Using Guided Math Groups in the Classroom to Provide Tier 1 Intervention</dc:title>
</cp:coreProperties>
</file>