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9011-E800-4A80-B818-744F09B76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B0EE-44C1-4327-8742-574084FD2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93A9-7334-47F4-B8A2-4BBD6F69F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B0EB-ED8C-49C6-A02C-5F5214953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6DD5-6FAA-4993-B746-E45D28753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89D0-64B5-48FE-9EB2-958427FEF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C9EE-8167-4E1F-8B95-409AEF605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eac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f they need help after they dig in…contact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D173-E944-402F-AF93-CBAEB07AC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2DB2-D729-4AFD-AF7A-67DA27DA7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98F7-B891-44EE-B850-29A9F0438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7DF0-A48A-4D93-A0BA-8C53F4F2F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94CC-5CB4-46B9-A1D1-1850EEF90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72C5-4378-4290-B016-301EBDD5F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51CA-3A44-4213-B474-3EF4A646E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7DFB-ABBE-458B-8A7F-7645E09A6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D255-0E27-42FD-9CAF-E949BF3D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631-C3FC-4B59-883A-42374AB2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7DD-827C-4D19-AACD-4832A2DA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A147-D4D6-4529-9412-8EE1D585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34BD-CF4B-4968-BE92-79944000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4522-81ED-42DB-A7CF-839F9648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F994-3D1E-40FB-9B52-FB2DC73D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8B14-4288-4085-901B-F7DB9C46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8070-45BF-4B65-951D-8AB66A11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47D3-FC25-42B1-A290-A1F390A7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7EAD-4ACD-4DDF-9FEB-0141BD02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A2A-9237-4EDB-9005-80AC8AF6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24E3-6CEE-4DE6-97C9-627E25E3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FCE8-8E5C-4019-AB1C-1E827D0E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B10A-6BDB-4F1A-AA8F-E3D73867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A236-66ED-4D8C-A3F4-61E05157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93E5-E086-412A-BF79-B7C964C8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3B6-578F-467D-9171-D46A116E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B75-2C3C-49F7-B166-B9C9B957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C48-0074-433D-9B75-CD50F1AD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5F9-0C93-40E2-858D-7052B637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99DB-BC46-4859-A38D-9870BCDF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836-3A3D-442E-8A3D-9255F08A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13F-37A5-40D9-97A0-0D7F497A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2F89-03DD-4867-8A8E-5536EE24A0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5C1D-3108-449F-8811-A06FC4CFAF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imsweb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IMSweb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Grade Pilo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3200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Upper Arlington Sch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914400" y="51642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ptember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urpose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MSweb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ade Pi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dministration and scoring protocols for the MAZE and Oral Reading Fluency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raining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Go to </a:t>
            </a:r>
            <a:r>
              <a:rPr b="0" lang="en-US" sz="2000" spc="-1" strike="noStrike" u="sng">
                <a:solidFill>
                  <a:srgbClr val="8ea642"/>
                </a:solidFill>
                <a:uFillTx/>
                <a:latin typeface="Calibri"/>
                <a:ea typeface="Calibri"/>
                <a:hlinkClick r:id="rId1"/>
              </a:rPr>
              <a:t>www.aimsweb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upport an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ain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ading CBM – Video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Benchmarking Parameters</a:t>
            </a:r>
            <a:br>
              <a:rPr sz="3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ade Pi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ptember 1- September 30 (PRACTICE WIND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a few students or whol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a few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no scor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nuary 3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al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only those below MAZE 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scores on spreadshe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2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al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only those below MAZE 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scores on spread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urn in scores to Julie’s drop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 Grade AIMSweb Benchmar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A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# of correc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OR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# of words read 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ptember 1- September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1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anuary 3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1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y 2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1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Looking ahea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haring data with elementary principals/EIS and middle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76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Excel spreadshee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76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After January administration and/or Ma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lan for evaluating AIMSweb as an assessment tool at the 5th grad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ting via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person meeting after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xploration of AIMSweb as a progress monitoring to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anks for all that you do to support your students’ literacy development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2 Truths, 1 L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web contains over 33 different assessment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web is designed to provide instruction to meet students’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web is a subscription-based, online data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AIMSweb Journey in UA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Rectangle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417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hat is AIMSweb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scription-based, online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ource for benchmarking and progress monitoring materia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management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generat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also IS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piece of the data “pict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nversation st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icture of present levels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quantitative measure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is NO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ssment tool used in isolation of other assessment strategies or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“one-time”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necdotal, qualitative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MAZE (comprehension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minister 1 grade level pa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sentence in every passage is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oximately every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ord is replaced with three bold-face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74"/>
              </a:spcBef>
              <a:buClr>
                <a:srgbClr val="d1e0ce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 distracters = visually similar, grammatically/syntactically simil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74"/>
              </a:spcBef>
              <a:buClr>
                <a:srgbClr val="d1e0ce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 correct cho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inute timed pa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be given whole group, small group, or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ORF (Oral Reading Fluency or R-CBM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minister 3 grade level pa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minute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needs a 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minister to one student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Benchmarking Window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tember 1- September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ing date:  October 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nuary 3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ing date:  February 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2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ing date:  June 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5:11:43Z</dcterms:created>
  <dc:creator>UA Schools</dc:creator>
  <dc:description/>
  <dc:language>en-US</dc:language>
  <cp:lastModifiedBy>Teacher</cp:lastModifiedBy>
  <cp:lastPrinted>2010-09-13T19:46:40Z</cp:lastPrinted>
  <dcterms:modified xsi:type="dcterms:W3CDTF">2010-09-13T19:48:51Z</dcterms:modified>
  <cp:revision>248</cp:revision>
  <dc:subject/>
  <dc:title>Using Guided Math Groups in the Classroom to Provide Tier 1 Intervention</dc:title>
</cp:coreProperties>
</file>